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002-4563-4428-9B15-C9F0D3DA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AD2-9454-4EB5-8762-932E9E3E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266-12AA-42C8-A6B7-6EDAF4E4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B30-0B13-49E4-BF6F-1D18E831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008-FE17-44C1-B589-D62893B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AFC-253E-4435-83E7-901E3390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80-137B-43E7-93A4-1CB931D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EEE-F525-4FEC-B83D-65032D27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A4A-47F0-4F22-BD0A-32F3EBE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7F8-3018-41FC-981D-B2E07FF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89F-AD85-4B59-9DD6-95C7157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516-2958-4448-828F-9C25825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616C-C7FF-4DE1-A62E-37EFDB9D9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1.xml"/><Relationship Id="rId3" Type="http://schemas.openxmlformats.org/officeDocument/2006/relationships/slide" Target="slide29.xml"/><Relationship Id="rId4" Type="http://schemas.openxmlformats.org/officeDocument/2006/relationships/slide" Target="slide27.xml"/><Relationship Id="rId5" Type="http://schemas.openxmlformats.org/officeDocument/2006/relationships/slide" Target="slide25.xml"/><Relationship Id="rId6" Type="http://schemas.openxmlformats.org/officeDocument/2006/relationships/slide" Target="slide23.xml"/><Relationship Id="rId7" Type="http://schemas.openxmlformats.org/officeDocument/2006/relationships/slide" Target="slide21.xml"/><Relationship Id="rId8" Type="http://schemas.openxmlformats.org/officeDocument/2006/relationships/slide" Target="slide19.xml"/><Relationship Id="rId9" Type="http://schemas.openxmlformats.org/officeDocument/2006/relationships/slide" Target="slide17.xml"/><Relationship Id="rId10" Type="http://schemas.openxmlformats.org/officeDocument/2006/relationships/slide" Target="slide15.xml"/><Relationship Id="rId11" Type="http://schemas.openxmlformats.org/officeDocument/2006/relationships/slide" Target="slide13.xml"/><Relationship Id="rId12" Type="http://schemas.openxmlformats.org/officeDocument/2006/relationships/slide" Target="slide11.xml"/><Relationship Id="rId13" Type="http://schemas.openxmlformats.org/officeDocument/2006/relationships/slide" Target="slide9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14.xml"/><Relationship Id="rId11" Type="http://schemas.openxmlformats.org/officeDocument/2006/relationships/slide" Target="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6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18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3.xml"/><Relationship Id="rId11" Type="http://schemas.openxmlformats.org/officeDocument/2006/relationships/slide" Target="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2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12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24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26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28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2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audio" Target="../media/Robotz%20Menu%20Popup.wav"/><Relationship Id="rId8" Type="http://schemas.openxmlformats.org/officeDocument/2006/relationships/audio" Target="../media/Robotz%20Menu%20Popup.wav"/><Relationship Id="rId9" Type="http://schemas.openxmlformats.org/officeDocument/2006/relationships/audio" Target="../media/Robotz%20Menu%20Popup.wav"/><Relationship Id="rId10" Type="http://schemas.openxmlformats.org/officeDocument/2006/relationships/audio" Target="../media/Robotz%20Menu%20Popup.wav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8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audio" Target="../media/Robotz%20Menu%20Popup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0.xml"/><Relationship Id="rId8" Type="http://schemas.openxmlformats.org/officeDocument/2006/relationships/slide" Target="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4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9999"/>
                </a:solidFill>
                <a:uFillTx/>
                <a:latin typeface="Tahoma"/>
                <a:hlinkClick r:id="rId15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6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the compu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87692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 Joseph Ma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Jacq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si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users does Facebook have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10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255m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40mill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 300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users does Facebook Ha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C 25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876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 300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Facebook ?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Mark Elli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Zucker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Edu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Sav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Dust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Moskov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.  Chris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Faceboo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A Mark Ell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Zucker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D Chris Hug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maker of Ipod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Sam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M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A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creator of the Ip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D M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886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952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. Ap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Season of Degrassi just aired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Seaso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Seas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. Season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Season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Season of Degrassi just ai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A Seaso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86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. Season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year did Elvis pass away?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D</a:t>
            </a: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. 19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esident of the United States?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Ben Fran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. Samuel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0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5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ear did Elvis pass a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120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5105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952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D. 1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Year was the constitution written?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A 17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. 17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B. 17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. 17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1200" y="39625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1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28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ear was the constitution writ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 17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name of George Washington's mom?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Mary ball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Cindy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B. </a:t>
            </a:r>
            <a:r>
              <a:rPr b="0" lang="en-US" sz="2000" spc="-1" strike="noStrike" u="sng">
                <a:solidFill>
                  <a:srgbClr val="82c7cc"/>
                </a:solidFill>
                <a:uFillTx/>
                <a:latin typeface="Tahoma"/>
              </a:rPr>
              <a:t>Sandra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. Lila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9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name of George Washington's m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1760" y="396252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ndra Washingto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8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Mary ball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y inches in 1 mile?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5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705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63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176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inches in 1 m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41200" y="39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6336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8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monitor for the computer?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Allen Dum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Arnold Hen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The UC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monitor for the compu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The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 Allen Du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internet?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D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ARP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 Bill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The UC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is the second president of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. John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. Samuel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The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 D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the Pythagorean theorem ?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 Pyth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ythagorea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 Ply M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. Pythag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the Pythagorean theorem 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. Pythag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4952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 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ythagor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created chemistry?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88620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A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.  Buddh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B.  Brit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c7cc"/>
                </a:solidFill>
                <a:latin typeface="Tahoma"/>
              </a:rPr>
              <a:t>D</a:t>
            </a:r>
            <a:r>
              <a:rPr b="1" lang="en-US" sz="2000" spc="-1" strike="noStrike">
                <a:solidFill>
                  <a:srgbClr val="82c7cc"/>
                </a:solidFill>
                <a:latin typeface="Tahoma"/>
              </a:rPr>
              <a:t>.  Japa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59911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4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5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reated chemi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8148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49528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3886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0292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952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4038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A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4952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c7cc"/>
                </a:solidFill>
                <a:latin typeface="Arial"/>
              </a:rPr>
              <a:t>D.  Japa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1447920" y="5257800"/>
            <a:ext cx="838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1143000" y="5638680"/>
            <a:ext cx="6858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was the full name of George Washington’s wife before he married 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 Kim Camp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Martha Dand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Cus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B. Anna Letitia Barba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8" action="ppaction://hlinksldjump"/>
              </a:rPr>
              <a:t>.  Mary Wollstone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71500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0" action="ppaction://hlinksldjump"/>
          </p:cNvPr>
          <p:cNvSpPr/>
          <p:nvPr/>
        </p:nvSpPr>
        <p:spPr>
          <a:xfrm>
            <a:off x="1219320" y="5991120"/>
            <a:ext cx="183492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full name of George Washington’s wife before he married 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733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952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. Martha Dandridge Cu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809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. Kim Camp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o was the creator of the computer?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809880"/>
            <a:ext cx="38862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 A. Asia Min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.  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B. Arnold Hen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4876920"/>
            <a:ext cx="3429000" cy="7617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. Joseph Marie Jacq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2:46:48Z</dcterms:created>
  <dc:creator>SPRIAUS</dc:creator>
  <dc:description/>
  <dc:language>en-US</dc:language>
  <cp:lastModifiedBy>SPRIAUS</cp:lastModifiedBy>
  <dcterms:modified xsi:type="dcterms:W3CDTF">2010-11-16T13:34:21Z</dcterms:modified>
  <cp:revision>9</cp:revision>
  <dc:subject/>
  <dc:title>Slide 1</dc:title>
</cp:coreProperties>
</file>